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F1FF-7672-40CC-ABCC-E203601E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2E1-5EBB-4E02-AB2B-AC68D11E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A33-9605-409E-B024-05C6ED74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6F5D-BB05-41D1-80CD-969434DA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E604-DB7E-4E28-9150-2C683451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FCD8-55B3-4C5C-9A25-03743D9F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81E6-80EF-4910-977E-C4F4461D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F57C-39F2-438E-82AC-9DD23CDF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BA72-B18A-4336-8E49-C9E614A6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CC59-BC63-443C-A9A0-3385D80F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B774-0735-4B61-BAAE-D2A50F2B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C5A1-2C78-4A53-8422-DAA7C18B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5598-245A-4BC3-AFAD-4D531553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B64B-91EB-4EA3-81FA-CD4080DF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E8A0-4463-4810-880A-B5F46C86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434E-32A7-4D22-AF9A-3E882239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270D-E803-437C-9B07-65F0BFCC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12761-0C65-480B-870A-89B43E70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8BBD8-3183-4910-9862-34AF98B4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B2927-EF1C-4E62-892A-38D6BAA4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4025F-04A3-4BDF-90F1-EC79F874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0F52D-C80A-4600-89B9-3AC7D637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49AE-52B2-4170-AC07-7ABFFFC4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6FEBF-9AB1-4D18-BB4E-554022E9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94F5D-6918-4378-B3C8-31E8849D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C063F-7D4A-477A-9B4F-C678C389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1683C-DD14-40E9-99AF-85637432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D2393-840E-40C1-B65E-5C293B71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9FA10-7D56-43DD-906B-98276198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9F827-992A-4A98-B74A-BAA83E7E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468BE-4DA4-43AF-B1CA-F3A64CB0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E86DA-6E9F-4604-A942-FC750ABA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75600-0987-480E-83C4-9840522E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D855-6B04-4C70-B141-63EB16B2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850B5-CB44-4C06-9C3C-578B8B99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869B6-AF48-4A8C-8DA6-9B13C003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89BCC-B4FB-4FA2-965F-D94B49C9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3A0E9-531A-4A74-820D-4B98AECC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5A9E2-A925-4F2C-ABDB-71256B7F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D16A3-462B-4576-B553-4B2F3A29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A74FE-4683-405D-8F00-AD677115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EF7D6-1616-4243-9A27-5A132585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E96DE-0ABF-4BBE-A0A0-23CA350F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876AE-1ADF-4AA4-B94D-9D15BF5D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6F74-9A3A-4FD3-A309-B3D8A194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B1369-BD16-483A-9989-5C48A5F6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CED21-FFDB-42D7-94D3-A4DFA5A0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2833E-E28B-47F3-986B-2D517734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89352-1C69-4F22-AD73-5AE9666D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9EBF7-696A-4D69-A752-2A07BDAD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3CD49-EE19-4261-A001-8C3B77B1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4C4B1-1753-4CFF-AD3B-F1EA2D60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C4DD8-E9D0-4C78-96A0-0E8DC675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35755-DB96-4636-AFBC-EADDBC80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EAE72-CA28-4617-B4FE-CD06EC1B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14A5-5DA4-41CC-BA56-6674FCFC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AF7B9-3F01-46AB-A165-8B5254B9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8231-0A21-42C2-90BB-93B42B78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16C4-B1A7-44DC-A646-BAE4C1C1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284F-3936-474D-A1D0-F5A2FF16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D47D-A44A-4993-AC06-60E39DC0A80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FEFE-FA8E-4044-B2C4-FD4FFB99F1F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118E-416C-4133-9CDE-684FD9CDD88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10E8-44C4-4E8B-95BD-A8AEB1056B5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4961-3AB8-4924-9396-A3A5D6CE727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canadiantire.ca/intro/homepage.jsp;jsessionid=BItXJDwMF41ohgfqtjb4cFYaJoxlrlp3r9irIsU1TYEye69cEMuQ!1806054921!172915536!7205!7305?bmLocale=en&amp;bmUID=1095249303954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609480" y="1542960"/>
            <a:ext cx="8412120" cy="29433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33160" y="4038480"/>
            <a:ext cx="7854840" cy="943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Chapter 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rategic Corporate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eize Organizational Opportunit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Key opportunities exist in fields where the organization is better than its competitors - so called Distinctive Competencie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The organization should attempt to seize opportunities in areas that not only is it better than its competitors in, but in areas where they will/can retain their advantage - so called Sustainable Competitive Advantag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nstantia"/>
              </a:rPr>
              <a:t>Strategic Marketing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rategic Market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 process directed at the product and market levels so as to allocate resources to viable marketing opportunit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ncludes Planning, Implementation and Contr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is process yields a  MARKETING PL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Key Questions to ask at the Strategic Marketing level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 are we n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 do we want to go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 we allocate resources to get to where we want to go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 we convert our plans into action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 our results compare with our plans, and do deviations require new plans of actio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2133720" y="685800"/>
            <a:ext cx="487368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Key Steps in the Marketing Pl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STEP 1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- A Situational Analysis &amp; SWO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Asks: What is the current situation with the market or the product?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There are many internal and external sources from which to draw this information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The SWOT analysis is a key tool to determining the answer to: What is the current situation with the market or the product?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WOT Analys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 Strategic planning tool used to detect key opportunit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nalysis of key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ternal Strengths (Within the orgs. contro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ternal Weaknesses (Within the orgs. contro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xternal Opportunities (Can be acted upo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xternal Threats ( Things to be watched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rom the SWOT process plans can be made to build on/improve strengths, detect and fix weaknesses, seize opportunity, and be aware of potential threa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WOT Analys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rcRect l="29175" t="23619" r="12254" b="29516"/>
          <a:stretch/>
        </p:blipFill>
        <p:spPr>
          <a:xfrm>
            <a:off x="2057400" y="2286000"/>
            <a:ext cx="510552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WOT Analys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rcRect l="36114" t="37006" r="16666" b="24318"/>
          <a:stretch/>
        </p:blipFill>
        <p:spPr>
          <a:xfrm>
            <a:off x="914400" y="1905120"/>
            <a:ext cx="7315200" cy="329868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5"/>
          <p:cNvSpPr/>
          <p:nvPr/>
        </p:nvSpPr>
        <p:spPr>
          <a:xfrm>
            <a:off x="2362320" y="5715000"/>
            <a:ext cx="457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Verdana"/>
                <a:hlinkClick r:id="rId2"/>
              </a:rPr>
              <a:t>Want to read more about SWOT? Click he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Key Steps in the Marketing Pl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STEP 2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- Set Marketing Goals and Obj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Marketing objectives must be clear, attainable and measurable target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Key objectives centre around Sales, Market Share and Customer satisfaction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evelop a Strategy to achieve the marketing objectiv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Key strategies  centre around reducing cost or increasing revenue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 this Section we will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fine Corporate Strate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fine Business Unit Strate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ain why Business Mission, Values, Culture and Goals are important to organiza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ffectively use strategic planning tools such as the SWOT analysis, Business Portfolio Analysis and the Market Product Analysis to assess strategic op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k through the strategic marketing process through the planning, implementation and control pha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Key Steps in the Marketing Pl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ypical Marketing strategies in order to increase reven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roduct Development: Develop a new product for an existing marke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Market Development: Enter a new market with an existing produc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Market Penetration:  Sell more of a current product to your existing marke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Diversification: Sell a new product to a new marke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Key Steps in the Marketing Pl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STEP 3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- Adjust the Marketing Mix to suit the Strateg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Determine the best product, the best price, the best promotion and the best distribution methods to meet the objective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et the Budg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Plan for the costs of implementing the strategy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Key Steps in the Marketing Pl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mplement and Control the Strateg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Hire the right people for the job and assign their ro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esign, Schedule and Execute the planned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valuate the Strategies effectiveness in achieving the set objectiv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ometimes, especially if the time from situational analysis to planning to implementation is long there will be a gap created into what is sold versus what could have been sold if the required changes (implementation) could have been made sooner.  This situation is known as the Planning Ga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rate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4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trategy involves the planning and the execution of the plann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trategic  planning is a process that plans for the Long-Ter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trategic planning can take place at two level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The Corporate Level - Strategic Corporate Plan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The Product Level - Strategic Market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4617b"/>
                </a:solidFill>
                <a:latin typeface="Calibri"/>
              </a:rPr>
              <a:t>Strategic Corporate Planning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rategic Corporate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teps taken at the corporate (top) level to develop long-run approaches to corporate survival and growth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tep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Establish Core Values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– enduring principles that the firm lives b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efine the corporate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Mission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-- What is it we do, to whom to we do it, How we do it and why we do i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evelop a complementary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Organizational Culture,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at supports the Core Values and Miss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rategic Corporate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et specific and measurable Goals &amp;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Objectiv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, or targets to be met my the organiz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These objectives may include such things as Survival, Profit, Market Share, Unit Sales, Quality, Employee Welfare, Social Responsibility, Shareholder value, Customer Valu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rategic Corporate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ses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#1 - Where are we now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ho are our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Customers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hat do we do well (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Competencies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)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hat do we do better than anybody else? (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Competitive Advantage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ho are our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Competitors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rategic Corporate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sses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#2 - Where do we want to go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oston Consulting Group Matrix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rcRect l="37739" t="22012" r="18867" b="25156"/>
          <a:stretch/>
        </p:blipFill>
        <p:spPr>
          <a:xfrm>
            <a:off x="2438280" y="2819520"/>
            <a:ext cx="4114800" cy="37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rategic Corporate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sses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#2 - Where do we want to go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rket-Product Gri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rcRect l="0" t="25156" r="58491" b="22012"/>
          <a:stretch/>
        </p:blipFill>
        <p:spPr>
          <a:xfrm>
            <a:off x="1600200" y="3048120"/>
            <a:ext cx="685800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8T15:43:26Z</dcterms:created>
  <dc:creator>Debbie Vincent</dc:creator>
  <dc:description/>
  <dc:language>en-US</dc:language>
  <cp:lastModifiedBy>Tilley, Paul (C'ville)</cp:lastModifiedBy>
  <dcterms:modified xsi:type="dcterms:W3CDTF">2011-09-20T12:12:32Z</dcterms:modified>
  <cp:revision>8</cp:revision>
  <dc:subject/>
  <dc:title>Marketing in the Organization: An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